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907-7FFD-46D4-B7DD-9ED8176F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7F0-C57C-4AB2-8BED-55228994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D7085-D96D-47A9-B3DA-7D94A17D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A7568-797D-407F-8C6C-327E2A44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C8C9C-E5A3-4F66-B288-5EA3490E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424EF-2C37-4364-A3D8-81C3E6F7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53B4B-CC2C-44D7-A305-A63CADFB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22884-64CA-4498-8D6F-3D57B76A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B778E-B0D7-4430-A6DF-9B7F378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BD277-B5D7-47FA-B178-82222042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37FBB-CCEA-458B-9839-78B45C8B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C9E47-2239-4235-A9B7-CA1C54AE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715-5F5A-495E-98C5-A87DD38B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7E07B-4B02-49C3-8A03-FC7F3900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3D6E2-9CFB-4C84-A79C-CF0D9111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4907D-3274-459B-82F5-AD7275D9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E627F-7306-4F6E-9159-0CE73645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FD0C3-C75B-4DAC-A243-7C3F55EF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4DCC8-7EA1-40C1-BC85-7EC795C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E86D3-F50E-4565-8B2A-AB98F4F4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2AADC-BCEC-4046-A0CE-2B689607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D53F5-55EC-4237-B7B7-68C20425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57BB1-E2F1-4434-8F07-613DB928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3CA-BC92-426C-BF39-1470C868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3BCBB-3C63-4FFF-9133-EA339591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1C413-3E5D-4D40-9468-C7574C3D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809EF-A8DD-4B41-BE4B-B329A330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8EAAB-739B-4639-B98C-DD67192C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7DB14-0407-4C46-A41A-FDFDCD36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01510-16E4-48C5-9D03-A6648A60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A890E-E4C5-4D34-AF60-85E5D11A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7DE0A-DAB0-4AE0-B0F4-663826C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0F636-A179-4CFF-BFF6-28E10DC8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794F3-3E5E-485D-B080-DE163060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6796-A3FB-4837-9FC6-0F0CEC93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DA6A5-615B-42E0-A7D9-1DC85F70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4F794-17DA-4F2C-A95C-4412D71B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130BC-858A-48F2-A5A6-E86305CC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369D6-B8F6-4C2A-B566-5364BE7B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55808-7074-49D2-A210-08F8769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F8370-9DFF-4599-8823-99CD45AD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87D4E-4670-4B1C-BBAE-9079BEBF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5309A-7025-4D3F-8C74-90073125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18E17-8C76-4678-A0B6-88CB1510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E782C-500E-497C-B5AF-E476E787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D020-471E-4E73-A282-C2B0278A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F6CBC-A9FA-4FAB-85C7-CF951365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05C05-2F76-4531-BB0F-E87153D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DF800-9A31-4B79-B9BB-7C17FF4D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F7E6B-6B1B-455F-B52C-C2E2417D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3A929-A085-48F9-8E89-80E636B6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0DBCD-0AAA-48A6-BF66-159EE2C3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46B0B-860F-4ECE-800D-244257F7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08DA1-86BB-4CF1-8272-8687427E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B835D-D3B2-4E4D-A406-C4B81E6B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97785-CB7E-4447-960D-DA6F0A95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DB4E-D60B-44AE-B025-9E9DCF86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F0127-0D86-4F5A-BDE6-74F24F9F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38FE4-2390-466B-9095-61174D64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51B9E-C75C-405D-A18B-990C7419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8C723-569A-4828-8436-69B206B9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61D9D-9B65-4400-8BA9-DF47D899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B1F22-A7CE-461B-9E52-067CA213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00A87-C4E5-4178-AF01-EF8B42B9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DE3F-7582-4805-801C-DF1FBF93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B58-F6EF-410F-B63D-B4042E16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B9FF-78E3-4625-B15B-D1C5B4E2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EAFE-6034-465E-8A0F-3E382195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EC4-2690-42EF-8104-C169A5CD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8669-99C8-4746-953F-3E39D1F4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855B-CB01-4864-9620-9FA10053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CBC1-AC46-49CD-BA83-021B0AD9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D5E4-6A49-4FEE-9F3F-923FFFCD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8CB9-5788-4D3A-A40E-E6ED5043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7215-4315-4316-9EAD-FA9F4B4E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8B62-370F-4E99-A136-90AC76E7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1A65-195C-4FBF-A33F-E7F3CF00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6415-C4F8-4EB8-B12E-9B838EF3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DF5CF-DD75-4D66-965B-00A07E4C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69D-AE34-4B11-A093-6942FB13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B074-7BDB-4BDE-8B02-D8035C2E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5150-CDD4-4C97-856F-FB9FE441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FDAC-B273-475D-8C7E-66820214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54733-1135-4561-B083-8078B1E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83E5-FD10-498C-AD4F-DA7117EC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69B6-B0F2-482C-9053-780FFE30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E9DA-C959-4F2D-9FE4-E8E9716B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DEBB-72E9-4280-BEFC-418AE33E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2D66-4555-422F-80F0-9777A38C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BB001-31F2-4353-B9AF-71EB5035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698-B8EB-4FCB-88C5-5E7066D6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704D0-012C-4E67-8E03-553E28D1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ED49B-2DDC-40AC-A7BB-FC1992E1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6599-8B2A-4FB4-B684-C7C1A6E1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BEF4-5C9E-4571-815F-FA600C04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EA18-A535-4E3F-9CA2-3BF370BB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3E35-AA71-4AFA-93A1-232F26D3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F2929-BED7-4540-A09F-BDE436F0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9D413-2BF8-4064-B8F2-2D46154D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9B13-17CA-411F-9D1C-B6F398F6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94545-0AD6-4270-99BB-66DA726B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72E-565A-4991-9B80-B9809938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7534A-7844-4473-871B-DC21F255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98472-22C6-43B8-A4E5-4B75FA1E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18287-0B99-4639-A258-C35D43EA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46A7-6D28-4AEE-8BD6-8051FDDA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101D2-BE85-4129-A2CF-887F2FD7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38488-AF5D-4E0A-B65A-23D01463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3830E-0C85-4F72-8AEA-7B80E652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FAA99-AC72-4AE9-816C-D58B9B05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18EB7-08E3-4818-91DC-00F65BD1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A77B8-D078-46AD-83AC-22325870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F27-BC2A-4AE5-93D1-97AC1320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8CC5D-B062-42DF-8FE3-E81FA9B4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92400-A795-459E-B833-2450391F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2A346-1F83-4DF7-A590-BA7F3318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3B94E-43E7-423B-9FCE-AF2CA4E4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6C563-2E12-4E94-967A-C44B57A5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A04E5-60F8-4C8F-B493-3D9A12C6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82DA0-D0FB-485E-BD4B-B0F39A81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DA042-E3B9-4085-9733-FEDA318B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CD2AE-A959-493F-9606-9A480770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F38CE-D3E9-4433-AB6D-7400C66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36B-0DB2-4ADB-A830-E8366716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4635A-9AF8-4F1F-B70E-203E66DD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9CE86-D4BF-4026-97FA-263C5A36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932EC-AADE-41B2-9FEB-98D373E7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5D398-3676-4F23-BAF5-6F4A4B03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3F8BF-AC94-44BD-9270-AAF69442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08783-5516-4112-91BB-EEC39C28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67FC-316D-4036-9BC3-8CB11FC3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D077-1FBA-4398-9C9C-0167773A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57BE-9A7D-4E0C-A0C2-78E7D48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ADE35-7831-43B5-B2BD-69C21A11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0D1-0256-4AFA-9FBC-F886F10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0FE0B-DD08-4755-8EAC-A2FD7C39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8395C-5B35-40C0-9299-AE780B31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D7EC2-9E5A-4AB6-9368-4005D436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24A46-F204-4849-A53A-E217581D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74873-6504-4006-9CE3-0F889947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A14CC-D2C4-4103-B5AD-A1F48B19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29FC-0480-4529-9DBA-F8F3D84F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FF6AA-5846-4E41-BE2F-58239A00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749EA-9718-4A85-8DD0-96F940CD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C4C78-493E-4B5A-BDC9-0A3A1AE1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9FB-5F9C-4811-BA7B-69F4047F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AD7A-78A5-472D-85A2-12588666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E482C-27B2-4AB4-828D-F4B2B223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02174-2DA4-40C9-8E20-3F77B74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D38A9-9740-426F-A27B-231CA1C0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4B2B0-7654-4C74-9994-D6B8AAD9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2C802-EC94-406D-B680-9595096F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6EE8E-0F87-42F7-9742-621D9E48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51ED8-793E-42A6-98DC-E6B0B0CF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A597D-62CC-40ED-B3F6-786135AC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21441-BBD2-42A0-8869-074EAF8F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C886-CD54-47E6-AB00-A8CB47CE8F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D98-CFDA-4B55-8595-01EC0E0F41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4F8C-5780-4E2D-B223-3A0C635BE5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B2DB-0D0E-4990-9228-8EF3BA85E0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DFB6-C7A3-42F4-82AF-55A9857786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9BE3-4571-4F78-8183-868EECA28D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7D67-69D5-4BAB-B9EC-F5516BF504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51AE-4CA9-4F87-A6FB-948F3300DD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C909-D5C7-4359-BFC2-D057E689CF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B6A1-D421-4476-922F-9EF5B0998F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9A9A-4590-49E2-8EAD-735E9DC884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EC54-0D4C-429C-AF90-90464D1981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6ABF-CE5B-4227-85AC-053F5ABA49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80280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merican Retro"/>
              </a:rPr>
              <a:t>Смежные   угл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763640" y="907560"/>
            <a:ext cx="6400800" cy="14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3"/>
          <p:cNvSpPr/>
          <p:nvPr/>
        </p:nvSpPr>
        <p:spPr>
          <a:xfrm>
            <a:off x="1800360" y="2060640"/>
            <a:ext cx="73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&l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решений – 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611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99"/>
                </a:solidFill>
                <a:uFillTx/>
                <a:latin typeface="American Retro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ить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тему « Смежные углы»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Olietta script-Poesia"/>
              </a:rPr>
              <a:t>Спасибо за урок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5" name="Line 10"/>
          <p:cNvSpPr/>
          <p:nvPr/>
        </p:nvSpPr>
        <p:spPr>
          <a:xfrm>
            <a:off x="3276720" y="3213000"/>
            <a:ext cx="331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 flipV="1">
            <a:off x="3276720" y="1484280"/>
            <a:ext cx="1942920" cy="1728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 flipH="1" flipV="1">
            <a:off x="2916000" y="1052280"/>
            <a:ext cx="360360" cy="21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48616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534528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656928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2968560" y="3160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618360" y="3592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0"/>
          <p:cNvSpPr/>
          <p:nvPr/>
        </p:nvSpPr>
        <p:spPr>
          <a:xfrm rot="19088400">
            <a:off x="3636720" y="2059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2"/>
          <p:cNvSpPr/>
          <p:nvPr/>
        </p:nvSpPr>
        <p:spPr>
          <a:xfrm>
            <a:off x="7236000" y="5516640"/>
            <a:ext cx="1152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Дуга 26"/>
          <p:cNvSpPr/>
          <p:nvPr/>
        </p:nvSpPr>
        <p:spPr>
          <a:xfrm>
            <a:off x="3571920" y="2928960"/>
            <a:ext cx="142920" cy="50004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  <a:lnTo>
                  <a:pt x="71438" y="250031"/>
                </a:lnTo>
                <a:close/>
              </a:path>
              <a:path fill="none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Дуга 30"/>
          <p:cNvSpPr/>
          <p:nvPr/>
        </p:nvSpPr>
        <p:spPr>
          <a:xfrm>
            <a:off x="3000240" y="2928960"/>
            <a:ext cx="500040" cy="71280"/>
          </a:xfrm>
          <a:custGeom>
            <a:avLst/>
            <a:gdLst>
              <a:gd name="textAreaLeft" fmla="*/ 250200 w 500040"/>
              <a:gd name="textAreaRight" fmla="*/ 500400 w 500040"/>
              <a:gd name="textAreaTop" fmla="*/ 0 h 71280"/>
              <a:gd name="textAreaBottom" fmla="*/ 35640 h 71280"/>
            </a:gdLst>
            <a:ahLst/>
            <a:rect l="textAreaLeft" t="textAreaTop" r="textAreaRight" b="textAreaBottom"/>
            <a:pathLst>
              <a:path stroke="0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  <a:lnTo>
                  <a:pt x="250032" y="35719"/>
                </a:lnTo>
                <a:close/>
              </a:path>
              <a:path fill="none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Дуга 31"/>
          <p:cNvSpPr/>
          <p:nvPr/>
        </p:nvSpPr>
        <p:spPr>
          <a:xfrm>
            <a:off x="2857680" y="2786040"/>
            <a:ext cx="785520" cy="117360"/>
          </a:xfrm>
          <a:custGeom>
            <a:avLst/>
            <a:gdLst>
              <a:gd name="textAreaLeft" fmla="*/ 392760 w 785520"/>
              <a:gd name="textAreaRight" fmla="*/ 785880 w 785520"/>
              <a:gd name="textAreaTop" fmla="*/ 0 h 117360"/>
              <a:gd name="textAreaBottom" fmla="*/ 58680 h 117360"/>
            </a:gdLst>
            <a:ahLst/>
            <a:rect l="textAreaLeft" t="textAreaTop" r="textAreaRight" b="textAreaBottom"/>
            <a:pathLst>
              <a:path stroke="0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  <a:lnTo>
                  <a:pt x="392907" y="58738"/>
                </a:lnTo>
                <a:close/>
              </a:path>
              <a:path fill="none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69" name="Line 17"/>
          <p:cNvSpPr/>
          <p:nvPr/>
        </p:nvSpPr>
        <p:spPr>
          <a:xfrm>
            <a:off x="2195640" y="2421000"/>
            <a:ext cx="489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8"/>
          <p:cNvSpPr/>
          <p:nvPr/>
        </p:nvSpPr>
        <p:spPr>
          <a:xfrm flipV="1">
            <a:off x="4286160" y="474480"/>
            <a:ext cx="1871640" cy="19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932360" y="191628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059640" y="17733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3761280" y="2584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2556000" y="5445000"/>
            <a:ext cx="446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3"/>
          <p:cNvSpPr/>
          <p:nvPr/>
        </p:nvSpPr>
        <p:spPr>
          <a:xfrm flipV="1">
            <a:off x="4643280" y="3573000"/>
            <a:ext cx="0" cy="187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48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30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3977280" y="57531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4643280" y="5300640"/>
            <a:ext cx="14472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4500720" y="5300640"/>
            <a:ext cx="14256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9"/>
          <p:cNvSpPr/>
          <p:nvPr/>
        </p:nvSpPr>
        <p:spPr>
          <a:xfrm>
            <a:off x="7164360" y="2637000"/>
            <a:ext cx="129708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уга 21"/>
          <p:cNvSpPr/>
          <p:nvPr/>
        </p:nvSpPr>
        <p:spPr>
          <a:xfrm>
            <a:off x="4429080" y="2214720"/>
            <a:ext cx="142920" cy="35712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  <a:lnTo>
                  <a:pt x="71438" y="178594"/>
                </a:lnTo>
                <a:close/>
              </a:path>
              <a:path fill="none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Дуга 23"/>
          <p:cNvSpPr/>
          <p:nvPr/>
        </p:nvSpPr>
        <p:spPr>
          <a:xfrm flipV="1" rot="10129200">
            <a:off x="3960360" y="2194560"/>
            <a:ext cx="571680" cy="377640"/>
          </a:xfrm>
          <a:custGeom>
            <a:avLst/>
            <a:gdLst>
              <a:gd name="textAreaLeft" fmla="*/ 47520 w 571680"/>
              <a:gd name="textAreaRight" fmla="*/ 564120 w 571680"/>
              <a:gd name="textAreaTop" fmla="*/ 0 h 377640"/>
              <a:gd name="textAreaBottom" fmla="*/ 145800 h 377640"/>
            </a:gdLst>
            <a:ahLst/>
            <a:rect l="textAreaLeft" t="textAreaTop" r="textAreaRight" b="textAreaBottom"/>
            <a:pathLst>
              <a:path stroke="0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  <a:lnTo>
                  <a:pt x="285750" y="188913"/>
                </a:lnTo>
                <a:close/>
              </a:path>
              <a:path fill="none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7020000" y="5805360"/>
            <a:ext cx="143964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6" name="Line 5"/>
          <p:cNvSpPr/>
          <p:nvPr/>
        </p:nvSpPr>
        <p:spPr>
          <a:xfrm>
            <a:off x="4859280" y="3860640"/>
            <a:ext cx="21607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6"/>
          <p:cNvSpPr/>
          <p:nvPr/>
        </p:nvSpPr>
        <p:spPr>
          <a:xfrm flipV="1">
            <a:off x="4859280" y="1341360"/>
            <a:ext cx="72072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 flipH="1">
            <a:off x="1619280" y="3860640"/>
            <a:ext cx="324000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8"/>
          <p:cNvSpPr/>
          <p:nvPr/>
        </p:nvSpPr>
        <p:spPr>
          <a:xfrm flipH="1">
            <a:off x="4211640" y="3357720"/>
            <a:ext cx="792000" cy="5029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9"/>
          <p:cNvSpPr/>
          <p:nvPr/>
        </p:nvSpPr>
        <p:spPr>
          <a:xfrm>
            <a:off x="5005440" y="3284640"/>
            <a:ext cx="503280" cy="936360"/>
          </a:xfrm>
          <a:custGeom>
            <a:avLst/>
            <a:gdLst>
              <a:gd name="textAreaLeft" fmla="*/ 0 w 503280"/>
              <a:gd name="textAreaRight" fmla="*/ 503640 w 5032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fill="none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</a:path>
              <a:path stroke="0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  <a:lnTo>
                  <a:pt x="3602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6443640" y="5661000"/>
            <a:ext cx="136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3185280" y="284328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704560" y="341964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5" name="Line 4"/>
          <p:cNvSpPr/>
          <p:nvPr/>
        </p:nvSpPr>
        <p:spPr>
          <a:xfrm>
            <a:off x="2268360" y="3645000"/>
            <a:ext cx="554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 flipV="1">
            <a:off x="4788000" y="1052280"/>
            <a:ext cx="158436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6"/>
          <p:cNvSpPr/>
          <p:nvPr/>
        </p:nvSpPr>
        <p:spPr>
          <a:xfrm flipH="1">
            <a:off x="4500000" y="3357720"/>
            <a:ext cx="431640" cy="28728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7"/>
          <p:cNvSpPr/>
          <p:nvPr/>
        </p:nvSpPr>
        <p:spPr>
          <a:xfrm>
            <a:off x="5003640" y="328464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rc 8"/>
          <p:cNvSpPr/>
          <p:nvPr/>
        </p:nvSpPr>
        <p:spPr>
          <a:xfrm>
            <a:off x="5076720" y="3141720"/>
            <a:ext cx="287280" cy="503280"/>
          </a:xfrm>
          <a:custGeom>
            <a:avLst/>
            <a:gdLst>
              <a:gd name="textAreaLeft" fmla="*/ 0 w 287280"/>
              <a:gd name="textAreaRight" fmla="*/ 287640 w 287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4265640" y="2916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60920" y="2987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2"/>
              <p:cNvSpPr txBox="1"/>
              <p:nvPr/>
            </p:nvSpPr>
            <p:spPr>
              <a:xfrm>
                <a:off x="3419640" y="4437000"/>
                <a:ext cx="761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13"/>
          <p:cNvSpPr/>
          <p:nvPr/>
        </p:nvSpPr>
        <p:spPr>
          <a:xfrm>
            <a:off x="40694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4"/>
              <p:cNvSpPr txBox="1"/>
              <p:nvPr/>
            </p:nvSpPr>
            <p:spPr>
              <a:xfrm>
                <a:off x="4932360" y="443700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Text Box 15"/>
          <p:cNvSpPr/>
          <p:nvPr/>
        </p:nvSpPr>
        <p:spPr>
          <a:xfrm>
            <a:off x="558324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 = 18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6"/>
          <p:cNvSpPr/>
          <p:nvPr/>
        </p:nvSpPr>
        <p:spPr>
          <a:xfrm>
            <a:off x="6588000" y="5661000"/>
            <a:ext cx="100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395280" y="907920"/>
          <a:ext cx="8567640" cy="4888080"/>
        </p:xfrm>
        <a:graphic>
          <a:graphicData uri="http://schemas.openxmlformats.org/drawingml/2006/table">
            <a:tbl>
              <a:tblPr/>
              <a:tblGrid>
                <a:gridCol w="4537080"/>
                <a:gridCol w="403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Text Box 75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250920" y="1125360"/>
          <a:ext cx="8642160" cy="499932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358920" y="690840"/>
            <a:ext cx="87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умма двух углов = 200 градусов. Смежные ли эти углы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Угол, смежный с углом в 30 градусов является туп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Могут ли два смежных угла быть туп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жет ли при пересечении двух прямых образоваться четыре прямых уг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637080" y="1890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79280" y="98208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Если два различных тупых угла имеют общую сторону, то эти углы смежные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Один из двух углов, образованных при пересечении двух прямых – прямой. Остальные углы тоже прямые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1:10:34Z</dcterms:created>
  <dc:creator>Шевчук</dc:creator>
  <dc:description/>
  <dc:language>en-US</dc:language>
  <cp:lastModifiedBy>Макаров</cp:lastModifiedBy>
  <dcterms:modified xsi:type="dcterms:W3CDTF">2012-03-17T10:30:34Z</dcterms:modified>
  <cp:revision>29</cp:revision>
  <dc:subject/>
  <dc:title>Смежные  и вертикальные углы</dc:title>
</cp:coreProperties>
</file>